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7C0F-EC4B-471C-9579-0D1E91C9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B0D5-B13F-4B58-8F9F-961EDF48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79A2-B182-4B93-9F72-B38EF194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2342-66DA-42F1-8714-F685ADC0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                                                                     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01742C6-0E19-4718-959F-5C3B0C34098B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72720" y="6244920"/>
            <a:ext cx="771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8A2C855-7337-442E-875C-1FE9507355C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77ED51-2A31-4EC9-8E7E-7B8735E04D0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6ABAB0D-EDF5-4F72-AC4F-48EE2DF5A644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A2267D-F82D-47BA-B3FE-786997EEDD8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336062-60EF-43C6-AB4F-6D59614E717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7E2FDB6-F8D5-4089-99AF-924AC4E85B8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08C30A-73DB-4A26-AC51-7E71FBDA766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5762160"/>
            <a:ext cx="876600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Finding and Organizing Information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aving Files 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907920" y="1600200"/>
            <a:ext cx="777888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Butt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v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a fi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logical and descrip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p to 255 characters in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contain these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 \  :  ?  “  &lt;  &gt;  |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7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44AC534-9E99-4310-9B52-18D84330BAF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ile Path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907920" y="1600200"/>
            <a:ext cx="77788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hown in the address bar of your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exact location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folder, subfolders, and file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9"/>
          <p:cNvGrpSpPr/>
          <p:nvPr/>
        </p:nvGrpSpPr>
        <p:grpSpPr>
          <a:xfrm>
            <a:off x="1727280" y="4151160"/>
            <a:ext cx="5821200" cy="1033200"/>
            <a:chOff x="1727280" y="4151160"/>
            <a:chExt cx="5821200" cy="1033200"/>
          </a:xfrm>
        </p:grpSpPr>
        <p:sp>
          <p:nvSpPr>
            <p:cNvPr id="384" name="Text Box 17"/>
            <p:cNvSpPr/>
            <p:nvPr/>
          </p:nvSpPr>
          <p:spPr>
            <a:xfrm>
              <a:off x="1727280" y="4151160"/>
              <a:ext cx="58212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\Computers\Chapter 2\Moon 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1800360" y="4762440"/>
              <a:ext cx="272880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e file 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7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DE22D5E-260B-41A1-BB0E-D24CE3B8099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6:45Z</dcterms:created>
  <dc:creator>Jean Bissell</dc:creator>
  <dc:description>Copyright 2006 South-Western/Thomson</dc:description>
  <dc:language>en-US</dc:language>
  <cp:lastModifiedBy>Lenessa Keehn</cp:lastModifiedBy>
  <dcterms:modified xsi:type="dcterms:W3CDTF">2011-03-25T04:44:38Z</dcterms:modified>
  <cp:revision>52</cp:revision>
  <dc:subject/>
  <dc:title>Slide 1</dc:title>
</cp:coreProperties>
</file>